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9D61-654B-454C-80B0-ACE1D4E5D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AE35-5B2B-4BEA-BAE4-3D652453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E47F8-FF83-4BD2-916E-80D858B2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F3CA7C-1CF5-4E71-9FF1-9596BC7D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EEBC96-0B42-4315-A426-54982CD1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313E1-A383-4D62-B134-8575EA22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10CDEE-42C9-4EDD-BB61-D2BE6BDA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1AFF94-19E0-423A-B7E9-3A42C4F3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728345-2883-4B74-95DC-2A746EDF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D67D76-A830-4860-84FB-578F3019D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834114-F7E4-4D8C-9FC3-FBA03DD3A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188F58-2DBD-43BB-A278-F8B943E8B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4813-1143-4E88-A657-BA60D9977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A6FA4C-F873-4204-A05E-EFCC9EC4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AE15E0-D98E-450A-81EE-5E873CD3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01624B-B77A-4AD5-BDA1-2DDF5485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FBF11D-805A-4E85-9550-DC4B228B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9DCDC7-7394-4562-A7FE-A58C6445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C941AE-1D66-4068-8B94-90813C5D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726C14-18B8-4B70-8842-922A986A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4BAE26-6069-4D4A-86C4-7F60DCE9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ADC805-C19F-47C9-A564-4226D938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9B7FD6-D6F7-49FF-A13B-FD3E744F4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E7CE-0357-4D96-A53E-D4C532D00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ECA7A5-EAD5-4C84-8979-240A505C8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D7C73E-2C38-4EBD-96F7-7EB76758E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62BEEB-B0A5-45BB-98E3-F5DFD4F3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DDAEF4-0CD7-48A7-B4C0-2FC84838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97D1D-0F61-4ED3-BB94-4B590626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9E2C2-1751-4C34-9EF6-091A83E6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AF72A6-0797-4D9D-BC92-CAFB7FA2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40CCA-324A-425B-B110-C12C5600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C27A74-92B5-4673-A6C3-B9CC7D7C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8A49DE-0C5A-4FA1-9FB6-11644780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5C6C-D7D4-4BA5-B5B7-7273FF29D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0753A-8678-4781-AEEE-985A9280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11A34C-0B47-45C2-9E5B-6FF6C8FC0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EAAF8-8786-44D5-A6C6-A3D8F167F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CB0252-72F3-4D95-A73D-EDA8D1106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D719FD-3DBB-47C2-9E36-645F4BF4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7EDACD-E0C3-4331-8EAC-8C991E9C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353B08-B724-4211-9D62-3FD9E62B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98FD91-80DE-4417-9836-CF3CC722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50831B-9DE9-4E8D-B501-46CE15C8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B65FF7-FA4B-4D94-A540-A8640C78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A919-E9A2-433D-9C0E-AA6ABB47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F8B6FD-4403-40F4-8856-F96050C6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2BE264-92FF-43CA-8D0F-D2372771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23DA88-B210-4CE0-96EA-A528BCBE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9801FA-F65D-4F90-9E98-B3BD69C2C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100126-EB7E-4EAE-9DA8-B0E445514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61ED58-3245-49BF-BCF4-6CC96C32E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E90F12-26EC-45DA-929E-D10D4E18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D22475-5635-46BA-874C-ADA35F15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E17032-A8E4-48CA-8889-E8C19BF0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48F981-4078-4DD5-8176-A586D56C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A7BF-6099-46EB-8CDD-8A9CC759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E78C36-8C37-4F61-AB63-AF62A9C7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1049C9-3DEE-4B47-B5F2-93AC5D2A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3A1D9C-E2D4-42B0-999E-AF323055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E4D249-4933-4FC0-A27C-87706549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A1491A-A488-4F38-8F09-212C3803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ED42BA-E385-44C7-9392-F85BE1ADA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DE6E33-1F20-49A1-B419-839BD9ACC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E825F4-7B40-48D5-A19E-35D99F6C2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7133BE-66C2-4B68-9D97-31672510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65D5E1-C3F5-4DAF-B9AD-988AAA93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A411-93E0-471C-AA07-7BAAF8A0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E5F8DD-35F7-4D78-89B6-55E01C7D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C9FCA2-966B-4BE5-9A21-CD43FADA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EE9C62-844A-4919-B859-DAC98781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309B8E-7E6B-4376-B407-8D931437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B28D54-D897-45B2-818D-4386A59A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A72FA7-4746-4422-949A-4D6959DC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E0C0D9-DB9B-47D8-98C0-4CDD5184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909B14-BF3F-47AF-B91A-69033D773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4445B3-2A5D-4A18-A1EB-BEBE26C23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9C0C15-3C4C-490F-A282-BC8257A18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68D9-70E2-45E3-BCB2-56D8768F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C56BF0-D557-4277-A831-ED9068C5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184BEC-CF05-41DC-A49F-44FA71E7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16E2FB-5226-431C-9F04-4EC20BE4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E09CF5-DD15-413B-BDFD-44A7E7FB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0511BC-DCB6-4B7E-AE88-39043E3D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B4F60C-65FD-4CBB-8721-E5BDC036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ADF435-8BE7-490F-AB62-AD8CF082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C3F23E-E3C7-416F-A40E-DC9B6CA5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35EF14-22AF-40B1-A5AB-25765632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523474-D5EA-4037-A409-2E8288EB8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CA3E-B0FA-46CA-A46D-4241116F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397003-7CB4-4B18-9FCD-0C377FB6D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282B52-E8D9-4D98-91F9-40E5063F4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1B31F4-762F-47B2-88AC-9FFF2479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4099F1-1794-4260-83E6-64E2ED48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6BF954-63FE-4032-92C3-D83ACE88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F921A6-FE7A-40F9-B363-8CD7CF49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D99261-A112-4331-9158-2B21E530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AE71FF-924E-46A3-876C-1599ACA8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CFB67B-42B7-41EB-A157-BA656A02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EB9A1D-FA90-4A21-B7FA-94D812BE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54AD-0F5D-4C91-AC32-7BB41B07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D90585-30F7-4941-8B7F-1DDD3D4F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729D30-9C3E-4922-BE3B-8EECF2E0B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D07324-B639-4DB7-A1E1-AF37B28F7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D3E46A-B895-4B9A-A3A2-99BDCB197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FC0B57-2BF4-4153-A872-876A8377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B2FBCC-904D-4D6B-8C3A-20C57B9E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C6DA5E-BCFD-4024-930A-B79B068A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A62025-E4F0-48B2-9C73-DB85FEA9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D0CBB0-600B-4F95-A188-3D9DC6B9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553AB4-6C86-4373-9BAF-5588BF40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A162-C8B2-4DB5-B0B7-3D34AA7A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0F9A-6776-47D0-9E89-1EF97CDA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A59E2C-3C88-4B72-AF4E-BDA584C9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63E4C3-022C-4DD9-9979-1E7F81E9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263809-D264-4F4E-8C0D-05C3D746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9B12EA-7A89-43BC-AFA1-2302F35F2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8C868E-0363-42A7-B6F1-2F549DA0C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43F6AC-04E1-4C0E-AAC9-D2E98DD4E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738030-1A51-4F26-A1CA-03704713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AF85B6-3F1D-4AC6-AE9B-351C4FE2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C15DAA-98B2-4A4E-8C4E-4310B017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5AE725-709D-4F84-9244-22CD6F39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C7B3-F51B-4BD9-9B63-1F283992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8747CA-22FF-4986-B9D9-16A7DFCB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31C7E9-27F1-459E-BB9B-48CFD55C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8A54DB-1998-4E10-B821-7A6DB1D9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88D4DC-FBF4-4308-A42E-75FD4648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150395-3FAF-4234-8A0F-58FECF35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D6CE95-EDBB-4605-9407-B66EF7ABA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917892-09AC-4B14-878F-F11811F18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998D2E-6727-45EA-97E8-D263883BD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FA27C5-C3E2-4329-9E9B-F8A17F7F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5AC650-EEC9-420E-8773-5081FF17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90D6-02ED-49C8-83F3-96F44D15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26A89A-78BB-49CA-A9D7-6D807857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881181-1E99-4BCC-9B6B-698B5F30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826DD2-79F4-4D4F-9270-81C8889B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DE4F28-BDC2-47BC-900A-E21BF4BF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B68695-EF3B-4429-A7BB-7AD356C6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79BDA1-1997-442B-BEE8-B572F1C8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761C30-AB29-4020-B3C1-25F40BE8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6C27C0-2DB5-497B-8FC3-0C9ADDACF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90B636-8458-4301-89CB-8A5DEF296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5C0FDE-E3F8-4019-964D-CC64C720C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8CCE-5E09-4969-B453-52DAAE177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2A4D54-40EC-4706-BC44-A2F5C91E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1E21CB-BA9B-4E83-8D58-5AD02D42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E9D39D-46BF-4380-9E06-715CE03B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8F842A-3A6D-498D-AD35-0B084825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39B80C-EA2C-4BE9-82CB-C7AAB4DE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E57B80-0A36-4A7B-96D2-BD8B42D1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E2E3BF-07BA-4209-B8C5-A9CC9B66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75F972-2B2D-4C1B-BD24-441B42DE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D7355A-03D1-449D-AB0B-6EF2C286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D55FBE-3663-4748-981C-50F4AEAA4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10292-27C3-400A-8120-C9122D6E7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618C03-9E87-4627-9039-BD42BF41A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D5A24C-506F-477B-AB36-96DF7E83F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DEF9CC-3221-41C0-BA28-8386C382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996C70-65E0-4206-8112-B60D7623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F922A5-2CB1-45B4-9106-A37DF77E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BF6D72-7336-42AF-B42B-B2A9D7AB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02F75D-E6CC-49D0-A489-010D3D19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17CFBB-109B-4C1F-A04B-10A3025E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9A4A1E-D029-4D7B-B070-8D7E9E81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6A5A5B-6D2D-461A-B5B6-B94E82BB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09870-3EA7-4005-91BA-30084F9A1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A915C7-5F8A-41D2-8979-6EA8F16D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C19BBB-EA70-4D80-94FD-07E770438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C6698D-D7FC-49BD-BA93-6D4BB04B2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CA9763-13CC-43E4-B478-F477ED3D0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6E3960-62EE-43AC-B11F-6E160D64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F50FDD-2BC0-4B92-9B7B-B1BA237B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BA90B2-81C2-4A43-8780-4D4743FC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2E21C2-4618-4030-8660-C2E54041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87194D-C57F-46AD-A1BE-5DED6E70A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C49B92-3F5F-4C65-B270-B980E3BE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64668-435C-428C-AAEF-3313BE4F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26F8BB-A06E-49B6-8F36-48DB63AC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F21F4B-6257-42A2-9A40-FC84E6F2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EDF3B5-3621-40DC-B22C-CF777708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90F727-5B03-40F2-9493-33AD2EF20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BBF8C6-86BB-41B7-83DE-0789FC542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5FF126-83E4-4F3F-AF46-67D66E221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EFD2F4-E2BB-457B-8017-1578C6ED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3150B3-A5F0-43ED-B445-028B9649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AAA263-977D-436B-B42D-B43CF85A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F06B7D-43B9-4A18-A4B9-FA8F506B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905DF-06C5-420B-AE86-3A896529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F0C336-0876-4413-A504-870861B3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C6226F-989C-494C-BD02-5C5E2525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06AFAB-EC5A-4143-8403-A23EAAED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AB9885-B029-4A4B-BE7A-23451D2B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A03646-E930-43DF-B77C-E1C24D0E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26E023-A5D8-4759-AFDF-31EE1F1A5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38A89D-6FF3-49E9-8E34-CB6D3EB15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F9BC981-A7B7-4A55-A8EB-3F5197916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CE3EB1-941F-483F-B796-72672DED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ACC23D-751D-413B-8EF7-EA6BCC86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E3D47-053F-4046-A02A-DFC366C6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F36CC5E-0481-4704-8623-1364F3C6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47C6E1D-1CC8-42A3-8F66-3ED10E34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E157B1-7ACB-4F16-9A1A-D71C13C2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4C0F7A-2C80-4234-A0E9-3AEE0B27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582179-F2FA-4786-8827-CEFB0B75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A0D303-751B-4A91-8108-4B84D577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ACCBBA-0F49-469C-B886-6011EF01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65CBF6-5B8C-430D-8EA9-2D0945A24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A1E961-3E21-4F09-842B-85105A259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A1BCB-213C-4D8E-95CB-909C1F7F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F16F-3B11-459F-A85E-FC75E06C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2D9D6-4689-4D4D-A423-1468C016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0F38F-4D0D-4377-9BBA-4E45C5FE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AD42E-FCCD-4F1A-8103-D7CBD2DA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A3D7B-EC96-4856-9484-268AB358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3D119-A895-4CD4-874A-AAD92AA6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63F3B-6F5A-4254-978E-39E8FF6F0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04EFD-0650-42A6-A6D3-DC2B5BA19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67866-1062-411F-BE3D-856BF81CF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BCAE0-9C1F-4739-BCA6-2218E452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BC3F5-9995-40E5-9DB2-A849D282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23B0-5A47-46D2-8631-DCC85434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EFFC2-3923-4C02-A833-95A7C82B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ABACB-03FC-43A8-8C44-5BC0BD3E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EE9A4-BFCC-4099-AE5B-6D6C4905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E0E0E-7B97-42D8-88BF-BC3DD05A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AC21F-F9A2-4320-915D-03E611F7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88D6F-9967-4FFC-8F67-EC2262F2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1F5D0-17A1-4FD3-A8DD-235C8862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877D1-C4DE-4D3D-9EBA-DBB260044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DEBF0-273A-4CAD-9021-E64D0EA21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F3B94-426A-49F4-98A2-501DE8332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AEAE-C600-4716-B64E-5D3464D2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42441-9F28-404E-95E4-2ABF0B85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BD856-4D80-48C8-8BAB-00502049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F5015-72EF-4FD5-A02E-FC323C94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DC411-0F25-4D81-83CA-3AB09C68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18D47-FB83-49F1-8C68-613ED49B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2FDB7-9C3D-4F82-BA23-C6507D0E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8384D-FCA0-414E-9EBE-6731F4F5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B4810-ACEF-468A-9548-41BE19ED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29816-2C3D-4C96-A797-0B39338B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2194A-168F-4B82-9950-BF60785D4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BE04-3A3B-4C71-8FF0-02E749ED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9A17B-10DC-4AB4-B2AC-0CEEC0EE7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05F6D-36CD-47BD-867A-6EDB39DDD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2A1A2-F299-412E-8042-6CF1E573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02798-5B71-40A7-A592-EAFE321C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6FE54-6C5C-42F9-ABDD-FF27F3EB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1CFAD-439A-4CEE-9D25-593B3D7A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6ED31-0E20-4431-A43D-6688ED0B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2F99B-9431-49D4-B23A-300930D6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4FE22-089D-4B13-84F0-3A68AAB6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AB723-F37A-4189-B56B-EE710E44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D984-9087-4753-9198-DC0EF2AE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C59C4-DC1D-45F5-BA1F-B3C7DF0A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BE9F0-9CAB-42F1-874E-A4C671AD8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6552E-69A4-4158-896E-30AE84E85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BCABE-CDAE-48F6-B690-23F043E13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37B72-1A2F-48C9-BBA6-7C18F566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D24CB-A07D-43E6-902C-F515EA61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D600D-0321-48AF-AA1E-94BBDB57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41F04-7CCA-441E-8D8D-B2C34C82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969DC-347A-4B38-BB65-7C7D1EF9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46CFA-972C-4664-827A-85522DB0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844C-308D-46D8-89EA-500D5BD6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09635-FA62-4F93-97F8-E8EC96C6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3708D-CE7A-4BB6-A400-BB2BA3F1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50CBF-FD0D-4455-B9D7-224FBF5D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92F70-F460-40D6-A228-A8ECEB651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48353-C979-4CB0-844E-46D3DC48A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F4D3B-4A19-49EA-B14C-4B06C83CD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9BE91-7D73-457B-980A-39CDDA45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0D82B-4546-4332-BFF2-9D4B1F36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F47D0-9266-4005-B5E3-9367E400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A9BDF-A451-487B-8E41-2AC08771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6DC1-2543-4531-AFFE-728A18D4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3916A-A103-481B-B11B-7DFFDB89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A3F55-B609-4970-8E07-3A32418A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F4DBC-AF62-4195-94ED-3F0E1852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9802B-A35E-4EF1-A279-5A9F2152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44E60-C0C2-4AF4-A776-2EC805CB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098C0-9A7D-47B9-9C4E-27FF76659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FC36F-E3A8-437B-A8CA-94E3A8EE8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F80D77-09B8-43C2-9F74-A3800A874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BA369E-2EBA-4FAA-8A84-1CB0DFCE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825F0-87C5-4C64-8155-5AD63065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7850-6440-425F-8E9C-02B9BDF344C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CD3C-654A-4599-94C3-457ED307CA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DC6B-A108-4296-A0D3-E3E39869FEC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56D9-59D2-4555-A753-759624C878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5929-CF0C-4967-BE3B-877BBAAADD6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D1C9-A59B-4B5A-B7BB-772FA9A643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6AC4-C01C-4D96-8556-57CE903969E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783B-012C-486D-9530-B702734673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5A48-EFA7-4AEA-8C82-4A2E3C7E8E5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936E-B898-4E2E-B571-2F5853547B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5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5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5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660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66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1AEC-2B46-471A-812E-3C8BAB14AF0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AFF2-108D-4ED9-80C2-F122D1DDE3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0326-E725-4133-B658-FE4913519B9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D910-1C23-4A63-AF4D-2C4780A389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1C96-70AE-4672-9095-4A89C1E6D1F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AAB6-21B5-4810-BC8F-8D5F0FEC60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4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EDE9-88CB-466E-A2BB-42D2F4EC2AD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5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5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DF18-AD12-44CB-AB0F-ADCEEDD599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55C2-7372-49E7-B411-14B8FEDFF61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5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7166-99B0-40BE-AEE4-60395909E2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5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41A6-FC8A-41C0-836D-A74A3F5D535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5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5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F7B7-6457-402E-AC48-59FBD26AC9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585D-0D24-4173-977A-A8FCE12111C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44FF-FE29-4546-92C0-41AEE542D0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126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5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8270-790B-493B-839B-BBE778144F4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5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7238-DEDB-4C4E-99B5-4053C438A9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CECC-2196-41AA-A94C-0D5152B6196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BC53-547E-4CC9-A3C6-ECDB3E2014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6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5217-FB76-4BFB-8B5F-41709CAC540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6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6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5DBA-D1B5-4E65-ABAB-F79AF743DA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 type="dt" idx="6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97D6-E56E-418D-9272-2DBF91AF080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 type="ftr" idx="6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 type="sldNum" idx="6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400E-AEA9-4793-8262-066BD2E10C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dt" idx="7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3E15-0236-4CC4-A75E-8DD829CDA22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 type="ftr" idx="7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 type="sldNum" idx="7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5F22-B731-4FBA-A7A5-6571CADF6F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5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86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9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90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972E-0399-4A12-872B-25C38C0ECD9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1094-4CBD-442D-92B7-4F626F8E37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9C16-1196-489A-B53B-A228ED1D3C4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7BC9-9F14-4497-B1EA-3CC3F0D67C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1D25-3585-4156-913E-5F7E532704D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6C3E-17EA-4290-A0DA-3C7BE828CD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7C7A-AD72-4E43-8146-EB95E9F6D2B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F0B0-5738-435D-8E2A-2506BE53BA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1C6C-2BF8-4C2C-A2AA-724F1D7968B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2176-72DB-441F-A396-12C178014C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25F1-2E31-4E16-888C-FF993E7E457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457B-6958-4D23-BA3B-A7E5BD00EC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2333-0937-4C04-9175-9DF03C5B679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88F4-BFDB-4CD0-AD6E-BD15B6155B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Прямоугольник 1" descr=""/>
          <p:cNvPicPr/>
          <p:nvPr/>
        </p:nvPicPr>
        <p:blipFill>
          <a:blip r:embed="rId2"/>
          <a:stretch/>
        </p:blipFill>
        <p:spPr>
          <a:xfrm>
            <a:off x="1865160" y="950760"/>
            <a:ext cx="5828040" cy="2603520"/>
          </a:xfrm>
          <a:prstGeom prst="rect">
            <a:avLst/>
          </a:prstGeom>
          <a:ln w="0">
            <a:noFill/>
          </a:ln>
        </p:spPr>
      </p:pic>
      <p:sp>
        <p:nvSpPr>
          <p:cNvPr id="1123" name="TextBox 2"/>
          <p:cNvSpPr/>
          <p:nvPr/>
        </p:nvSpPr>
        <p:spPr>
          <a:xfrm>
            <a:off x="3155400" y="468324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4" name="Picture 2" descr="C:\Users\SunnyBeam\Pictures\sch009.png"/>
          <p:cNvPicPr/>
          <p:nvPr/>
        </p:nvPicPr>
        <p:blipFill>
          <a:blip r:embed="rId3"/>
          <a:stretch/>
        </p:blipFill>
        <p:spPr>
          <a:xfrm>
            <a:off x="227160" y="2492280"/>
            <a:ext cx="3600360" cy="3205080"/>
          </a:xfrm>
          <a:prstGeom prst="rect">
            <a:avLst/>
          </a:prstGeom>
          <a:ln w="0">
            <a:noFill/>
          </a:ln>
        </p:spPr>
      </p:pic>
      <p:sp>
        <p:nvSpPr>
          <p:cNvPr id="1125" name="TextBox 3"/>
          <p:cNvSpPr/>
          <p:nvPr/>
        </p:nvSpPr>
        <p:spPr>
          <a:xfrm>
            <a:off x="5540760" y="3141720"/>
            <a:ext cx="182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ля глаз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4"/>
          <p:cNvSpPr/>
          <p:nvPr/>
        </p:nvSpPr>
        <p:spPr>
          <a:xfrm>
            <a:off x="4553640" y="3789360"/>
            <a:ext cx="409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положено. Требования СанПи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7" name="TextBox 5" descr=""/>
          <p:cNvPicPr/>
          <p:nvPr/>
        </p:nvPicPr>
        <p:blipFill>
          <a:blip r:embed="rId4"/>
          <a:stretch/>
        </p:blipFill>
        <p:spPr>
          <a:xfrm>
            <a:off x="414360" y="5742000"/>
            <a:ext cx="7699320" cy="884160"/>
          </a:xfrm>
          <a:prstGeom prst="rect">
            <a:avLst/>
          </a:prstGeom>
          <a:ln w="0">
            <a:noFill/>
          </a:ln>
        </p:spPr>
      </p:pic>
      <p:sp>
        <p:nvSpPr>
          <p:cNvPr id="1128" name="Нижний колонтитул 7"/>
          <p:cNvSpPr/>
          <p:nvPr/>
        </p:nvSpPr>
        <p:spPr>
          <a:xfrm>
            <a:off x="0" y="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1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Picture 2" descr="C:\Users\SunnyBeam\Pictures\мяч1.png"/>
          <p:cNvPicPr/>
          <p:nvPr/>
        </p:nvPicPr>
        <p:blipFill>
          <a:blip r:embed="rId2"/>
          <a:stretch/>
        </p:blipFill>
        <p:spPr>
          <a:xfrm>
            <a:off x="3995640" y="5445000"/>
            <a:ext cx="901800" cy="90036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2" descr="C:\Users\SunnyBeam\Pictures\мяч1.png"/>
          <p:cNvPicPr/>
          <p:nvPr/>
        </p:nvPicPr>
        <p:blipFill>
          <a:blip r:embed="rId3"/>
          <a:stretch/>
        </p:blipFill>
        <p:spPr>
          <a:xfrm>
            <a:off x="7147080" y="544500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2" descr="C:\Users\SunnyBeam\Pictures\мяч1.png"/>
          <p:cNvPicPr/>
          <p:nvPr/>
        </p:nvPicPr>
        <p:blipFill>
          <a:blip r:embed="rId4"/>
          <a:stretch/>
        </p:blipFill>
        <p:spPr>
          <a:xfrm>
            <a:off x="3995640" y="9079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3" descr=""/>
          <p:cNvPicPr/>
          <p:nvPr/>
        </p:nvPicPr>
        <p:blipFill>
          <a:blip r:embed="rId5"/>
          <a:stretch/>
        </p:blipFill>
        <p:spPr>
          <a:xfrm>
            <a:off x="1042920" y="4797360"/>
            <a:ext cx="949320" cy="947880"/>
          </a:xfrm>
          <a:prstGeom prst="rect">
            <a:avLst/>
          </a:prstGeom>
          <a:ln w="0">
            <a:noFill/>
          </a:ln>
        </p:spPr>
      </p:pic>
      <p:sp>
        <p:nvSpPr>
          <p:cNvPr id="1133" name="Нижний колонтитул 5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лифиренко Е.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БОУ СОШ №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4" name="мне мама тихо говорила.mid" descr=""/>
          <p:cNvPicPr/>
          <p:nvPr/>
        </p:nvPicPr>
        <p:blipFill>
          <a:blip r:embed="rId6"/>
          <a:stretch/>
        </p:blipFill>
        <p:spPr>
          <a:xfrm>
            <a:off x="25092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16" dur="2000" fill="hold"/>
                                        <p:tgtEl>
                                          <p:spTgt spid="1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20" dur="3000" fill="hold"/>
                                        <p:tgtEl>
                                          <p:spTgt spid="1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6 C 0.21511 -3.7037E-006 0.39046 0.11042 0.39046 0.24746 C 0.39046 0.38496 0.21511 0.49607 5E-006 0.49607 C -0.21511 0.49607 -0.38924 0.38496 -0.38924 0.24746 C -0.38924 0.11042 -0.21511 -3.7037E-006 5E-006 -3.7037E-006 Z">
                                      <p:cBhvr>
                                        <p:cTn id="24" dur="2000" fill="hold"/>
                                        <p:tgtEl>
                                          <p:spTgt spid="1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07407E-006 C 0.06076 0.11713 0.1783 0.14953 0.26146 0.07268 C 0.35937 -0.0176 0.33993 -0.15625 0.3217 -0.23357 L 0.29288 -0.33311 C 0.275 -0.41112 0.25764 -0.55139 0.36823 -0.65348 C 0.43923 -0.71875 0.56909 -0.69815 0.62986 -0.58102 C 0.69062 -0.46412 0.65955 -0.29468 0.58854 -0.22917 C 0.47795 -0.12709 0.38541 -0.19815 0.33698 -0.24792 L 0.27743 -0.31899 C 0.22951 -0.36899 0.13923 -0.4419 0.04132 -0.35162 C -0.04202 -0.27477 -0.06077 -0.1169 3.05556E-006 4.07407E-006 Z">
                                      <p:cBhvr>
                                        <p:cTn id="28" dur="3000" fill="hold"/>
                                        <p:tgtEl>
                                          <p:spTgt spid="1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246326" fill="hold"/>
                                        <p:tgtEl>
                                          <p:spTgt spid="1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3:40:25Z</dcterms:created>
  <dc:creator>Admin</dc:creator>
  <dc:description/>
  <dc:language>en-US</dc:language>
  <cp:lastModifiedBy>каб_12</cp:lastModifiedBy>
  <dcterms:modified xsi:type="dcterms:W3CDTF">2014-02-10T10:23:09Z</dcterms:modified>
  <cp:revision>6</cp:revision>
  <dc:subject/>
  <dc:title>Презентация PowerPoint</dc:title>
</cp:coreProperties>
</file>