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8B26-0B58-4F06-A968-D8AB20264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D5F9-5928-4E4C-BDF6-40390BD6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DDB3-3120-4CC7-B20B-82EB4A3A2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D36E-BE5D-4AE2-B024-C44C35D39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2B36-095B-49E9-8A4C-6F1B2BBA3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C1D0-8626-4E12-B77F-89682F28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52CF-61DF-448A-ABA4-C66C977E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CCE9-69F2-42FC-99BF-EC7485B3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9F54-79F0-4013-9123-317BFB7E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F8F28-70AF-40A3-9CB9-8C4F7822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F86F-DE96-48C7-A74E-97E6A4E1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3297-EBC5-4E97-8D11-BC167816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F578-768D-4E6B-A8F9-6DBB59AE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28D9-B27B-47CA-B71E-016D96BF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60E76-59DD-4B46-BC48-3A8CF41E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11D6-E7A8-49D9-99C1-049420765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0F5B-199C-41D6-9C57-FF84103CA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A88D3-1036-4371-AA6B-0B7AF6F24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A427F-892E-4959-8FA5-EF495090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DA55C-CD74-4B89-9866-D7953017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670ED-B88E-421C-9D4D-0C4BD5A5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79C6B-A77A-4967-B0D6-84F1FC53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A61A-6119-4EAF-A0D6-BC7F011F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77F22-F653-4787-888D-5D950FBB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AD6D4-AE87-4C59-90E7-C3B4C984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DADAE-9295-4E95-9604-C3E93508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E66A0-617A-4DBD-BA1A-B72B2399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DC788-6F46-4C1B-B08E-0604C86D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37F7E-9B1D-491A-8CA2-61389674D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7F379-EA24-47A4-8C8B-5EDD15690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0CEED-AAB7-47C4-B116-DC0A3E22B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9A1E8-62DF-4C15-9D8B-DAE13542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9F757-AD35-41B8-B723-3A8F4E9B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82D7-0E07-4DEB-B833-5DBA5228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CE016-A767-4D3C-958B-73575462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71DFD-8A24-4AD7-8486-4D4C9F16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C4127-FB51-4018-B587-39742840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A5941-E8FD-4789-8D8C-1FD9F75E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118A9-877B-41E3-AAF8-349C2648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221F8-D89F-46E8-84CB-8C86E155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A455D-54C2-47D8-85D8-661710E7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0784C-8A97-458E-B133-EC6F14E74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7F8F2-6AFC-4B30-827F-8BCC292E1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0B9B-99D9-4A47-9A5D-ACE5C67A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E500-0588-4C7D-81B0-CB199B14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B696-8637-46E2-B22B-548A6704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20FF-D545-4B2F-96DE-F24C1446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6A60-3167-44C7-80E9-8C24A401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EF78-887F-40D4-A58C-22130321D3F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629F-CC66-4821-8687-248799EAF55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96D7-2E88-4B0A-BAD1-510C51B480F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C94B-E6B4-4817-9A79-9DB5A321D16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8547120" cy="2559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384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презентац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ученицы 6 класса «В»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Жук Алё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6" descr="1253143630"/>
          <p:cNvPicPr/>
          <p:nvPr/>
        </p:nvPicPr>
        <p:blipFill>
          <a:blip r:embed="rId2"/>
          <a:srcRect l="0" t="20816" r="4989" b="2026"/>
          <a:stretch/>
        </p:blipFill>
        <p:spPr>
          <a:xfrm>
            <a:off x="214200" y="1928880"/>
            <a:ext cx="4357800" cy="4700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-360" y="404640"/>
            <a:ext cx="5435640" cy="64533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лександр Иванович Куприн родился в городе Наровчат Пензенской губернии в небогатой чиновничьей семье. Детство и юность Куприна прошла в Москве. Тринадцать лет детства и юности Александр Иванович провёл в закрытых учебных заведениях. После тяжких лет казарменной жизни скитался по России, был и репортёром, и грузчиком и управляющим на стройке, землемером, работал на литейном заводе, выступал на сцене, изучал зубоврачебное дело, был журналист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C:\Users\Public\Pictures\Sample Pictures\Batkin1.jpg"/>
          <p:cNvPicPr/>
          <p:nvPr/>
        </p:nvPicPr>
        <p:blipFill>
          <a:blip r:embed="rId1"/>
          <a:stretch/>
        </p:blipFill>
        <p:spPr>
          <a:xfrm>
            <a:off x="5327640" y="244440"/>
            <a:ext cx="3852720" cy="55040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18:54:52Z</dcterms:created>
  <dc:creator>Алёна</dc:creator>
  <dc:description/>
  <dc:language>en-US</dc:language>
  <cp:lastModifiedBy>Пользователь Windows</cp:lastModifiedBy>
  <dcterms:modified xsi:type="dcterms:W3CDTF">2014-02-12T10:38:52Z</dcterms:modified>
  <cp:revision>14</cp:revision>
  <dc:subject/>
  <dc:title>Александр Иванович Куприн</dc:title>
</cp:coreProperties>
</file>