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B6CE-8D8B-4E5C-8191-5E167C150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62B5-4E97-44EC-88D5-8D46503F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17BAD-91F9-424F-AD74-7B5A102C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F14C8-FF75-4FD4-8E04-B06DFC91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915CA-AC60-4D25-9B8E-600DE287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1990C4-8F93-48AD-A5E2-C5E09044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9C6C5D-71C7-4D76-ACDE-95E1C42D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9356B-0C23-422D-8F91-611B38B4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5DD00-694D-487E-A4F0-71933787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1BDF4-CBC3-4C48-9F0A-0BE97FE81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3B90B-3CC9-44E5-BA75-7E1A8B6CE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215091-582B-4F85-B4DD-5D64FA9D7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1424-CB1F-4E1A-891F-BA5A54C66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8E6AF-3133-4E0B-AA9A-62A09145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68BB2-368F-4A73-8231-50A2CC84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7FA4E-CA5F-4F94-8959-33F9E7CA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AA9712-EDD8-4D83-9AA7-3F228717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1996F-D41C-4AFA-A8A7-32F8D101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80B1BA-0159-4B37-BA35-9BFA3F67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4E340C-36E1-47C4-8830-3F27F356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CCB307-3647-4F08-BA40-68696251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8E7951-7075-4D3D-862F-20B15AEE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86724-9BE9-421C-A74B-7537C6B61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86FC-2EDB-4255-8BC3-3AC03C9C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BE0261-1FAE-4574-9B44-88C0D69A2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EB454-6592-40C8-994D-7C160E88D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47576-4374-4EF6-8CC2-9190826A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44572-E55B-438F-BB37-10B5AC1D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3087E-701C-441A-9AE6-0D94E9A4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3411D-4CEA-483C-B731-68256C9D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9BB0B-5945-446D-8412-7FE6F578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F5A15-EEEA-4A89-84AE-1F56BBD1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1879E-9A8B-469E-96C7-31AFAF40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F887F-B47D-41D9-94E7-2287DE93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23F8-6D20-4B41-BE0E-E44A89C78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EB747-F9E6-47EF-A6EA-F6FB7100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64618-1F5C-4F0A-AD6B-9118BE0E3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BA1FE-A685-452A-A391-958F66F29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11BBE2-BB47-43DD-BB9A-36F2BA680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0CDDD6-A6E2-4CDB-886C-E625C26E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A95CA7-43CA-48B1-9F05-DCC3B0FE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1F81C7-9CE9-4C93-95BB-72710B24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C18B5B-26A1-4887-A30E-676F1B99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52D7B5-5A89-40CE-8390-58E4C83F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CBAB21-3589-432D-A497-F2D0A408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6374-A2A9-4912-A119-98EF4B8F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A46D49-CE6B-4B26-8E83-1A9A542F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6C857-EC41-4CB0-9B2D-C290ACCE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4F8285-A5B1-491F-BA36-3C822D3B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134BBC-E605-4C46-91B6-CC8D34390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A7CCB3-5BFA-44C2-B35D-05268C25C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1D1720-81AF-4ABA-A939-A08B5C8F0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1959D2-C672-440E-A204-7D4E89A4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EF2464-65D7-471B-9EAB-BD277981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98046B-61B0-4E78-A369-59EF34F1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F97ED7-2D70-4CB4-84EF-47D602EE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848C-919E-4024-8159-3AD4BA91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816DFA-0A57-40D3-9E20-BD0D1853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5105AB-3D6E-43A9-8E5F-88EE3E9C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C37E51-AFD5-4193-926C-1B5CFFB0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40DB05-0553-424A-A700-CA0F5B89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9CE24E-39B5-4226-B5C0-17FA0EFC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DC06FE-70F6-4923-B708-18334A898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8DDC35-08C2-4471-B915-4F96A512E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BA433F-EA2A-4690-A7EE-B4F0F639D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90138B-44DC-48B0-8DDA-FC671F04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E200E4-19FB-438F-B4B3-76FDF637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83C7-AB90-4110-99AF-113C2B8E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AA318E-DDB3-43E8-B39A-D551E45E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A4BD69-BD38-4392-A854-FBE881FB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C1E412-D990-4469-A461-68DB45D8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C8DAC7-9C53-495C-A285-E0B1AAF1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605B04-AC97-49BC-B036-02887763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8B1FD6-5EEB-40BB-9818-29C7A78F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AE7DDC-F3D4-4E3D-8EC9-A59226CD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FCEB03-9983-4B8A-B717-4039B3597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862EDA-8E40-46A5-97FB-EF2C11A89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E025D3-EFC0-464C-BE3F-2CB9FB41D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4AF4-7089-4D9D-B53F-80F93238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D2285B-C18E-4D1F-802C-47749632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22882A-1E32-42A0-80D3-43A80E3A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261310-B284-42A0-8907-756C13EE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953B50-5318-41AF-AFA0-D2FA3643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718E59-918B-446C-82E0-A7290F9F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39610C-FA1C-45F3-BFC6-927D6ECC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0ACF5A-640D-4B4A-8734-80DBB558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42301D-FE93-4E24-BBCB-576D7301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0D2E17-C83D-4C07-8131-2E6C4FA4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7D4AD4-F636-4B8E-A850-1D01A8BD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FF25-6C4D-4F10-9855-801CEC19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6E38AA-7CA0-4619-8C5F-0DD3E8F2F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B3F3CF-AD84-4F10-9548-74638657B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F15E55-F2A1-4895-81B9-7D0FADDF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A4724C-EFDA-4ABD-8CFC-975AC8C8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AB79E9-53C6-4341-9E2A-0A25024C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47060D-1303-46AA-ACD0-7FF6488D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1426A0-0130-4C70-BEA3-5DA94BFC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BCBE64-11D8-4FFF-9C46-86DEC586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B23392-B297-4231-AFA5-B04A3F0C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C0F6D1-F827-4BC6-88CF-6591E63A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7A2F-EF39-4B9C-8DEA-7A0FD275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080939-2134-4336-9E92-A8208BAB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F25DE0-2390-4A55-A7D5-6DD2E3171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F21ACA-B37F-4482-B14B-B8693DF9A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A54707-F5A6-4CF4-A07C-0E7A1F0C9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024989-0298-4687-A6DB-704870C7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E4AA7C-8AA6-4C7E-9580-F8335BBD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F55BCC-1E15-4CB6-9BC9-9063413B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8C6DA8-733E-4723-9E95-CD856466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EA16B6-7A30-4B9C-8E99-EB1FAAF2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0455F7-A066-43C5-A56E-43C9681D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9AAC-76F8-4D66-BA5F-EBB8B073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D4FE-191E-4741-AE2F-B0BC9C8A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C3B541-6661-4972-926B-CAD1D808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32E31A-FCE0-409F-920F-94638B41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A19575-290A-49E6-8E31-E9EBEEBD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3AADC3-EE84-4A61-A58F-C157734C8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6291A3-2686-4DC3-BA7C-C42018554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F2B52B-2B61-4064-848C-92556065C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C2FCA4-94D4-4D90-A154-74566781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193544-9AED-4696-B3CE-0AEEECA6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D5BC49-3FAB-47FD-966A-5F7B4E99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B89871-85E9-48F1-B895-67865CB5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6C47-3066-44C8-93F5-7EFC96C5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1A10B0-31E2-4C95-BD99-FF25207D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68F01A-F0E6-4152-A3F1-9A5A83AD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2B09FA-A629-42AE-A334-D9D8E580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267524-32B4-4AB2-B5DE-FA4E0834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DAD4F8-4D01-4451-BF9F-85354780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01B046-BC6A-439B-8D1E-4E7E60AA0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1006E0-493C-4049-8258-70A1AF702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967504-EA72-417D-8533-B025D7205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D8BA1C-5696-47E6-8DA4-FF6E0DE3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45A2F7-0A56-438F-89A1-FA82D198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6D43-3FFD-4227-84AB-334D5F3D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7A737D-E392-4E18-B0A7-DA997A66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0A516D-56D6-4A47-8BD9-55E37077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E3810E-1166-4997-A3B4-30982756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7F46A2-B418-45AB-B66A-C99B6C5F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A1C1DC-41A6-4486-8C39-24EBC65C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27EA90-DA25-4F25-84CB-F6C74FE4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76ACCB-DF96-4961-B707-29813EA8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C6EA21-548B-45F1-8763-2D89EA509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CAC8AA-79EB-46FB-A593-3E7AE3E7B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43C6B6-230B-45FF-9A8F-20260880A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38F1-A792-4EE8-8E2E-E8FE3AC6C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7D27BD-908D-4790-894C-0C3493A7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FB7394-53CA-48AB-B18D-D34E65E3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25A874-79A6-480A-BD08-7410AEB5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9E1C8B-0D3F-4B6F-A95D-66F65ED6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1E0D7E-5552-4BA5-8E92-F3335DEA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90BF60-AFDC-4F5E-8981-D57A5489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A0B919-BAB3-4683-9747-06539D72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1A6E26-FB86-43F0-914E-B9C38BB1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1E2D06-1CD6-4EE6-A929-3EFD0F68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019F6C-1646-40FF-8C4D-94F673A4B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FF4A-FAEA-4E62-BB06-962AC358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056262-F6D3-4DE4-8E80-435F289FC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1F2226-B6F7-4D5B-9282-39DF78C4B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DB894E-4D2A-4C1D-B69A-2655DCCF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59EF1A-796C-4CB1-8F7E-D7520051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8EF9C9-097C-46EF-A00F-6BBECA90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C749A7-78BA-4208-99FB-69970B4D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15D0C9-762F-4FD8-ACC2-562E6BBD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522576-5743-4791-9180-340F6D60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16847D-0681-4FAB-AA73-3BC54294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AFD570-C1CE-40CA-BAFE-40934F3F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57CAE-DC84-4288-AC5E-DD7495B9D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C8CA3C-36E4-4958-B750-1A06AA99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FF05F7-B833-4C9C-A69E-C6D098FCE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EA4C8C-3EB5-4733-9513-AB8FA5910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27E56E-9227-4AA2-A3E2-BDB0FB6E8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F09B2D-1BAD-4C55-9DCC-250F9C33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7D0C97-645E-4384-B636-A2AAA092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6B8ECE-8D3A-4F59-9304-EB4140B5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578E15-8CB9-4D0E-8B71-956A6F82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59FF16-994C-49A8-9997-471ECF1A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835DE1-47FA-4DB6-9A55-EFBD4070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0B36A-E269-4B23-974C-447BB300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B75769-A9F5-4589-8CF7-39D961B5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D5CA87-0A2E-4721-A793-8DB35B54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693342-4B1E-4687-AA4E-3A6AADE0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A82E77-9134-4DB1-BA8C-A77B8BF80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297005-7218-4897-91AB-197C51AB6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FD0C41-DB1F-4DAF-9319-73B174771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02CAB4-1FDB-4A21-8AC9-7461D37F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44FC4B-786A-4004-8922-BDEA52EB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84F608-269A-4F41-AFBE-C68CA778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CF6D43-2E97-4D5C-974E-7907B70C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3D887-7B1C-49C1-AFFC-2CE813DE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39231F-EA8D-4687-BC83-618C5692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A75F77-962C-4BC2-91F2-3826EA4E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D949B9-C067-4E22-B9F5-8716CD0C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7B7ECE-99EA-46AB-ADCE-E21AA3E0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3B70E3-01AC-48C5-AEF3-3D252C38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89B8F2-466F-4C94-BDB6-C1C56D8FC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3F9B48-846D-47CD-B459-D096C9353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A520D4-23F2-4A3E-9045-00CAAC476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783C96-F4C4-42A8-8EDB-7FEBA8A9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F8F112-CC46-478E-8994-FD61B612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78625-32EC-442A-8146-D4B478BF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5A970E-532C-46E1-9C1B-A7470C1A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D93B53-D369-4FF4-B828-65092A30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4AECDF-AA0A-4895-BBDF-CA184AA3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259E8D-1EF6-4D76-9FB4-4CE7F503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603268-5CC3-4557-982A-A129EAE8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229EFF-708F-4FBC-9EE9-6CE71ECF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1F17A4-E90D-4C74-B982-813D20C0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90B9E3-CAC8-41CA-9BA5-DBCCA40FA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0142C5-5C1E-4F0C-982A-655A23A4A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CE748-BF08-4E43-975E-A4ABF538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F3C9-3E15-4ACF-A34E-4080ECDA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F8C83-3F01-43AF-80F5-4457BF49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C6329-1EA7-4283-BE88-BB5CB0A9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8B9D4-CEF1-4109-B8B2-C086238B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227E6-69E8-47EA-A894-1FC18211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4164A-81EF-47D5-8A8F-0B019E72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F26E4-3B26-4797-9E52-8C0E3C361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0F027-6E45-4F14-8BB7-86D80B729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DA65B-6CC9-45B4-8F80-E03DDF838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48C39-5C6F-4845-9BA0-4758CA3D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00165-6F44-407D-88DD-9B9C7455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91C0-5047-41B2-91BF-D51CCC37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00081-C082-4E0F-811C-76C09754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AE102-D8E5-4B03-B38A-1F3C2191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C762B-58C2-474B-8942-E77B1D50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5A3E2-0FF8-4BB2-BE3E-875224AC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C2E6A-1AA9-47D9-A635-0661EDED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00258-591C-4D9D-8539-DACEBBF5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2BCCD-C6C4-4081-AE9A-D483F59B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0BA61-1106-4EED-B495-F17288866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C091F-3F4A-4F15-AAFC-2D2B08693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4C598-0A7A-4F00-9281-AB13FDAD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84CA-B2F9-499E-A9A0-952B1261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AD072-1DD1-4D76-B2E0-74ED34F9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F2AF3-6C4D-47CF-BD68-6B72ACCB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FEA55-054F-4236-B653-3CADCF3F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AD3B2-FDE3-47D7-8DAC-6C05EB4B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CF648-B8E4-4C6E-A8F6-0588C955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DF7E9-101B-411A-8106-D49E49A0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73213-BE37-4189-963F-26732E46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2C9EE-2CA2-471D-BFF0-4C64ADD5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D992C-9DA9-47EC-A6F8-431E5F4C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810DE-DD96-4548-859B-E724F54DA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2241-98B0-456D-8D62-3F823B8E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B4239-C8A6-40CC-9023-3A0F7C217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9163D-EF51-4B37-933B-9E4D7A8F4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089FB-EE9C-465D-8044-7E1CDB92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91064-32E7-417E-B4AE-3569D43F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F244D-A8EF-4015-8412-3D70BC81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D5D25-52B7-46FE-8B2C-F0452F0A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4A7B2-8F74-4CC6-92B5-72DFD3B4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13A25-6A0B-4D88-9754-BB31FAD6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A7DB8-6A4C-4A9F-8DD6-9D2776C0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D25D9-99B1-46EE-8C33-7C6F9C55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F677-8625-4FE4-93DB-7C399C7E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FB92C-1971-461A-94F2-52CC38E4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1DD4B-6F2A-4867-B199-49EEEAA9F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CA860-76B9-4396-8CE8-DC28D5BA7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294E3-5AF1-491F-8B74-7E7441CAF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E2EC4-FFD4-437D-B3A2-584C4EF6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46AED-5461-433E-A0B3-5B489997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E7DBC-18D1-4E59-B6A5-5C13F4FA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BC923-AE85-4A35-9A84-159A3223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6E768-17F1-466A-B112-238E099F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BA7CF-9E93-467A-A35A-295B63E5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0EEB-68DD-47B4-9B44-9AF4FE40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C3B0E-4A3E-41F4-8C6F-2FD58A4F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B9BC6-A2D3-4FB6-B8C0-D2EA6FBE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21673-71CD-4CC5-B690-E0EF1FA2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DC593-C0CE-47BF-BF00-9A68EB15A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F93D2-AF62-4A39-BE3C-9980144EF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42540-828D-4A86-9366-B2CEF82D7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35175-0762-425A-9EE1-4E68C987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9DEBE-047B-447E-9B7C-C55D79D9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D727D-0D27-4850-97DB-16CD6BEA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74837-DE4C-49F2-9B19-1116C45A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CCCC-3019-4C93-8404-48ECEE59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18348-9D73-4B2C-BE7E-3D9EA215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801F7-1CB2-4267-A8FF-A37BA041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C0356-28DF-4A13-8BAD-761B515C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C2F15-E597-4289-A429-E5CC0998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456BF-5C8E-41BB-9F18-BAA4E6F4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F883C-6D01-4138-ADA8-19EAC3546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CBDCD-2002-4AE2-ADD5-D4576ECEC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ECCD0-A596-4F49-8AC8-8EAB7275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1DD47-692D-4C18-8BEB-88E82B2C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F44D2-8349-4C2F-AE5A-D3CBB478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03C4-5EF6-4432-9664-4D3D43BCF9C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F81D-74BD-49D2-94F8-AC1375EF49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3E61-C0E1-43C5-876A-601A1200BDE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483F-5B65-4A40-9FB7-2962F21B19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9353-1F59-47CF-BF00-5FB05C8857E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3F30-B3CE-4A3F-95C5-7E59AC2423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CFFD-2E86-4D7C-8E72-0A748A644D0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ACD7-C2AE-4347-87DE-8EE42D27D2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EF1B-BC43-44D5-B024-5F1F40062DE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FFC8-585A-4C00-9AC6-F1422B78AF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5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5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660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66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34F1-D659-4B6C-A1AF-C596ABE5CE4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B3D9-F6B7-4BD3-98AC-99CE8C2EBA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AF53-6485-4978-927D-92BA4327E59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567A-7386-4E22-A28D-A91F5A432A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AC8C-FF00-4F00-A9D6-59FA2CF4355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4035-3A85-4EFF-AD23-B2401D30D0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427F-4350-47C3-AD60-4E2F50C3E42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E0D7-5DC5-4FC5-9E85-A185584E09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6395-E4CB-42C0-9B4B-82C37F2FDCA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9BB6-CEA7-4E0C-B50C-129F63FBCD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7A7A-71C5-43C2-80C2-E774D86E321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FD68-DF98-4FE2-8EA9-1C6164D06B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8B6D-3290-4F34-9700-143A30CB171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70D0-89AE-41FF-94CF-A8E582A030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0490-CD33-4CF8-932D-7E3DC05C055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669A-2413-40E3-8694-643584D817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0F86-2604-4814-A160-E7C4F49219C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2186-70C6-4998-80DF-4ACEBB008B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6E9D-1FF3-45EF-88A9-F7C3C3289A9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E1AE-042D-4F37-97F1-AC2941EF4F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dt" idx="6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50C6-1E91-46AC-9BD3-077CF152323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 type="ftr" idx="6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 type="sldNum" idx="6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4C34-8B10-4A94-831B-9F8EAE7A3D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dt" idx="7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8FA0-FE10-4BFC-BEE4-7E32DC14EDE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ftr" idx="7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sldNum" idx="7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4758-8735-4608-8C86-53027ABF96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28A1-73A5-4A2D-82CE-A41ADA5ADF3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6AAD-03B6-49AB-A875-08E7AA442D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66C8-53BE-49DD-ACF8-189BBB6506F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0693-79F9-409E-9EA2-C24FFA0277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3705-2FE1-4B3C-91F9-C3C52AC9836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C93C-D9FB-4025-8568-AE451268DB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5C16-98A9-4FC2-BC01-041D6DB670D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4ECC-EC3F-4F5E-A138-60950CEE5E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84E7-8009-4483-9EB7-3A064205709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80FB-556A-416B-A403-F9A017C4A0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6EA1-4AD2-4CD9-A75C-3DADDDB24D9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6F58-5E13-49F6-8B54-B3C27540F0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52B2-C995-42BC-BB90-51FC84F7EB9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09E8-0989-40F9-859B-C7ED15DF01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Прямоугольник 1" descr=""/>
          <p:cNvPicPr/>
          <p:nvPr/>
        </p:nvPicPr>
        <p:blipFill>
          <a:blip r:embed="rId2"/>
          <a:stretch/>
        </p:blipFill>
        <p:spPr>
          <a:xfrm>
            <a:off x="1865160" y="950760"/>
            <a:ext cx="5828040" cy="2603520"/>
          </a:xfrm>
          <a:prstGeom prst="rect">
            <a:avLst/>
          </a:prstGeom>
          <a:ln w="0">
            <a:noFill/>
          </a:ln>
        </p:spPr>
      </p:pic>
      <p:sp>
        <p:nvSpPr>
          <p:cNvPr id="1123" name="TextBox 2"/>
          <p:cNvSpPr/>
          <p:nvPr/>
        </p:nvSpPr>
        <p:spPr>
          <a:xfrm>
            <a:off x="3155400" y="468324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4" name="Picture 2" descr="C:\Users\SunnyBeam\Pictures\sch009.png"/>
          <p:cNvPicPr/>
          <p:nvPr/>
        </p:nvPicPr>
        <p:blipFill>
          <a:blip r:embed="rId3"/>
          <a:stretch/>
        </p:blipFill>
        <p:spPr>
          <a:xfrm>
            <a:off x="227160" y="2492280"/>
            <a:ext cx="3600360" cy="3205080"/>
          </a:xfrm>
          <a:prstGeom prst="rect">
            <a:avLst/>
          </a:prstGeom>
          <a:ln w="0">
            <a:noFill/>
          </a:ln>
        </p:spPr>
      </p:pic>
      <p:sp>
        <p:nvSpPr>
          <p:cNvPr id="1125" name="TextBox 3"/>
          <p:cNvSpPr/>
          <p:nvPr/>
        </p:nvSpPr>
        <p:spPr>
          <a:xfrm>
            <a:off x="5540760" y="314172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глаз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4"/>
          <p:cNvSpPr/>
          <p:nvPr/>
        </p:nvSpPr>
        <p:spPr>
          <a:xfrm>
            <a:off x="4553640" y="3789360"/>
            <a:ext cx="409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оложено. Требования СанП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7" name="TextBox 5" descr=""/>
          <p:cNvPicPr/>
          <p:nvPr/>
        </p:nvPicPr>
        <p:blipFill>
          <a:blip r:embed="rId4"/>
          <a:stretch/>
        </p:blipFill>
        <p:spPr>
          <a:xfrm>
            <a:off x="414360" y="5742000"/>
            <a:ext cx="7699320" cy="884160"/>
          </a:xfrm>
          <a:prstGeom prst="rect">
            <a:avLst/>
          </a:prstGeom>
          <a:ln w="0">
            <a:noFill/>
          </a:ln>
        </p:spPr>
      </p:pic>
      <p:sp>
        <p:nvSpPr>
          <p:cNvPr id="1128" name="Нижний колонтитул 7"/>
          <p:cNvSpPr/>
          <p:nvPr/>
        </p:nvSpPr>
        <p:spPr>
          <a:xfrm>
            <a:off x="0" y="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Picture 2" descr="C:\Users\SunnyBeam\Pictures\мяч1.png"/>
          <p:cNvPicPr/>
          <p:nvPr/>
        </p:nvPicPr>
        <p:blipFill>
          <a:blip r:embed="rId2"/>
          <a:stretch/>
        </p:blipFill>
        <p:spPr>
          <a:xfrm>
            <a:off x="3995640" y="5445000"/>
            <a:ext cx="901800" cy="9003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2" descr="C:\Users\SunnyBeam\Pictures\мяч1.png"/>
          <p:cNvPicPr/>
          <p:nvPr/>
        </p:nvPicPr>
        <p:blipFill>
          <a:blip r:embed="rId3"/>
          <a:stretch/>
        </p:blipFill>
        <p:spPr>
          <a:xfrm>
            <a:off x="7147080" y="544500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2" descr="C:\Users\SunnyBeam\Pictures\мяч1.png"/>
          <p:cNvPicPr/>
          <p:nvPr/>
        </p:nvPicPr>
        <p:blipFill>
          <a:blip r:embed="rId4"/>
          <a:stretch/>
        </p:blipFill>
        <p:spPr>
          <a:xfrm>
            <a:off x="3995640" y="9079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3" descr=""/>
          <p:cNvPicPr/>
          <p:nvPr/>
        </p:nvPicPr>
        <p:blipFill>
          <a:blip r:embed="rId5"/>
          <a:stretch/>
        </p:blipFill>
        <p:spPr>
          <a:xfrm>
            <a:off x="1042920" y="4797360"/>
            <a:ext cx="949320" cy="947880"/>
          </a:xfrm>
          <a:prstGeom prst="rect">
            <a:avLst/>
          </a:prstGeom>
          <a:ln w="0">
            <a:noFill/>
          </a:ln>
        </p:spPr>
      </p:pic>
      <p:sp>
        <p:nvSpPr>
          <p:cNvPr id="1133" name="Нижний колонтитул 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лифиренко Е.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БОУ СОШ №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4" name="мне мама тихо говорила.mid" descr=""/>
          <p:cNvPicPr/>
          <p:nvPr/>
        </p:nvPicPr>
        <p:blipFill>
          <a:blip r:embed="rId6"/>
          <a:stretch/>
        </p:blipFill>
        <p:spPr>
          <a:xfrm>
            <a:off x="25092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16" dur="2000" fill="hold"/>
                                        <p:tgtEl>
                                          <p:spTgt spid="1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20" dur="3000" fill="hold"/>
                                        <p:tgtEl>
                                          <p:spTgt spid="1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C 0.21511 -3.7037E-006 0.39046 0.11042 0.39046 0.24746 C 0.39046 0.38496 0.21511 0.49607 5E-006 0.49607 C -0.21511 0.49607 -0.38924 0.38496 -0.38924 0.24746 C -0.38924 0.11042 -0.21511 -3.7037E-006 5E-006 -3.7037E-006 Z">
                                      <p:cBhvr>
                                        <p:cTn id="24" dur="2000" fill="hold"/>
                                        <p:tgtEl>
                                          <p:spTgt spid="1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C 0.06076 0.11713 0.1783 0.14953 0.26146 0.07268 C 0.35937 -0.0176 0.33993 -0.15625 0.3217 -0.23357 L 0.29288 -0.33311 C 0.275 -0.41112 0.25764 -0.55139 0.36823 -0.65348 C 0.43923 -0.71875 0.56909 -0.69815 0.62986 -0.58102 C 0.69062 -0.46412 0.65955 -0.29468 0.58854 -0.22917 C 0.47795 -0.12709 0.38541 -0.19815 0.33698 -0.24792 L 0.27743 -0.31899 C 0.22951 -0.36899 0.13923 -0.4419 0.04132 -0.35162 C -0.04202 -0.27477 -0.06077 -0.1169 3.05556E-006 4.07407E-006 Z">
                                      <p:cBhvr>
                                        <p:cTn id="28" dur="3000" fill="hold"/>
                                        <p:tgtEl>
                                          <p:spTgt spid="1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46326" fill="hold"/>
                                        <p:tgtEl>
                                          <p:spTgt spid="1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3:40:25Z</dcterms:created>
  <dc:creator>Admin</dc:creator>
  <dc:description/>
  <dc:language>en-US</dc:language>
  <cp:lastModifiedBy>каб_12</cp:lastModifiedBy>
  <dcterms:modified xsi:type="dcterms:W3CDTF">2014-02-10T10:23:09Z</dcterms:modified>
  <cp:revision>6</cp:revision>
  <dc:subject/>
  <dc:title>Презентация PowerPoint</dc:title>
</cp:coreProperties>
</file>